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6083-3E8C-485B-8326-F5418547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ECFF-0DB2-4E3E-8767-087885AE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A6E-ADEB-4E59-91DF-AFD7E882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360B-FFBB-44F6-97E7-0C288A6D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90A0-B3CB-40BF-ACA6-1F67BF13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D688-4CC7-4470-BEBF-F9288EC1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FB35-DB9A-49E4-8F74-16E744CB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DD70-73D4-4D58-AEEA-F26B48F0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677D-2220-4C23-86E5-D7B93090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C2C1-0FC8-488E-B900-B497770B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968D-5133-447D-B262-31164FF4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4EC6-55BA-4CFF-8DFC-395EDF90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BB49-34F5-447C-A3B7-05E796B3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DEFE-8D8F-4CB9-9043-5CB6F90C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C635-A29A-4653-BF1C-938DD331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5CFA-F8E8-46CD-9B04-4609E2C8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F6F5-7E28-4E01-A11A-5BA3CCEF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0AA9-BDD3-490B-BE01-B2D64ABA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1FD-D1D5-4B64-A8D4-D610142C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A850-F1AB-49B4-B28F-67D8B097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93DA-4934-420B-9316-ABAE2AFA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9EFE-0CED-474A-9FA6-B5DDFF13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F67A-F263-4B42-9BCD-6BB164BF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8FF2-B2CA-40A6-85BB-E6794D30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E92A-B54B-4830-98CE-8162DFDE3094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2648-95A8-4B25-A7E1-47920A6BF46B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Rebellion in Upper &amp; Lower Canad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rt I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Caus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00720" y="1413000"/>
            <a:ext cx="4259160" cy="34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#4: Transportation Problem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ople led to believe upon immigrating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buy cheap 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uld have access to towns and mark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or roads caused hardship &amp; discon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rgy&amp; Crown reserves lay i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attered 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cle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ocked road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mers had to wind their way around rese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eec94"/>
                </a:solidFill>
                <a:latin typeface="Times New Roman"/>
              </a:rPr>
              <a:t>Reformers and What they Opposed</a:t>
            </a:r>
            <a:endParaRPr b="1" lang="en-US" sz="41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wer of family comp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nted changes in government/society of Upper Can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bert Gourl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Scottish land 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d survey, list of grievances, petition…depor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lliam Lyon Mackenzi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newspaper (“The Colonial Advocate”): spoke out on land problems, power of Comp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cted to Leg. Assembly, leader of reform mov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uis-Joseph Papinea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leader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arti patrio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L.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istocratic reform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ght both for radical reforms &amp; to preserve traditional French-Canadian val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former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32000" y="4365360"/>
            <a:ext cx="2016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Robert Gourlay’s campa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32000" cy="2917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084720" y="515772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4360" y="3860640"/>
            <a:ext cx="14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imes New Roman"/>
              </a:rPr>
              <a:t>Louis-Joseph Papine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754520" y="4076640"/>
            <a:ext cx="1943280" cy="2305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020000" y="5589720"/>
            <a:ext cx="15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lliam Lyon Mackenz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558120" y="765000"/>
            <a:ext cx="19969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auses of Discontent in Lower Canad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found British rule w/o democracy hard to accept (exposure to revolut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olony controlled by oligarchy of merchants and ex-army officers – all ENGLISH spea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English seemed to have most advantages (80,000 English vs 420,000 Fren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felt French society under attack: attempt to join colonies in 1822, tried to make English official language of the U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eelings of Nationalis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English-speaking immigrants everywher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meant to solve French ‘problem’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gov’t worked to change seigneurial system to freehold land system (offered land in E. Townships to people from British Is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ships arrived with cholera-stricken Ir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plot to kill French off with diseas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discri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unequal taxation (farme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lack of power within gover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Quick Overview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1812: British North America w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per Canada (Ontar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r Canada (Quebe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Brunsw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a Scot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nce Edward Is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00720" y="2637000"/>
            <a:ext cx="43257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ead-up to Rebell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30’s saw two rebellions erupt in N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r Canada: led by aristocratic Louis-Joseph Papine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per Canada: led by newspaperman William Lyon Macken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124000" y="4005360"/>
            <a:ext cx="1892520" cy="237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005360"/>
            <a:ext cx="20005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ead-up to Rebellion continue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 for both rebellions were simila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nial government was out of tou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onial governments give power to small group of rich, influential men = OLIGARC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differences we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U.C. = ideological &amp; political crus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L.C. = added complexity of race &amp;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auses of Discontent in Upper Canad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#1: How the colony was govern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#2: The rulers of the colon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#3: The problem of la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#4: Transportation proble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#1: Government of Upper Canad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ot of the problem was in having 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lec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embly under control of 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ppoin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c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. by Constitution Act (179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ritain appointed a Governor to control oligarchy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ieutena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Governo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 colony (appointed) highest ra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gislative Assembly – looked democratic - all men owning property could vo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 appointed councils – actual power held by them &amp; L.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uld VETO anything proposed by Assemb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embly could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gov’t, but not lead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laws/spending had to be approved by bo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#2: Rulers: Family Compac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group of powerful people in Upper Canad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de up appointed counc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dn’t want US government to be part of Canadian gover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ended tradition (Conservativ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ieved power should be in the hands of few capable people (themselve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ieved Church of England should have pow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yal to Great Brit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nted gov’t to build canals, improve busin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#2: Rulers: Chateau Cliqu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alition of wealthy landowners, merchants, government officers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ower Can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system as Upper Can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avated by fact that elected members mainly French Canad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vernor’s handpicked council were Anglo merch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#3: Land Grievan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settlers complained loudl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speculators (Family Compact) &amp; absentee landowners overpriced or tied up prime land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Less than 10% of land was producing crops (all the good land was actually in the hands of the rich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Displacement of Aboriginal peoples to give land to the Family Compac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1/7 Clergy Reserve the best land – Anglican church in Upper Canada and the Catholic Church in Lower Canad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24360" y="2781360"/>
            <a:ext cx="2362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9:57:00Z</dcterms:created>
  <dc:creator>sandhu_sonita</dc:creator>
  <dc:description/>
  <dc:language>en-US</dc:language>
  <cp:lastModifiedBy>Koutsonikas_v</cp:lastModifiedBy>
  <dcterms:modified xsi:type="dcterms:W3CDTF">2010-10-28T17:45:11Z</dcterms:modified>
  <cp:revision>17</cp:revision>
  <dc:subject/>
  <dc:title>Life in upper Canada</dc:title>
</cp:coreProperties>
</file>