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0F3-C4DE-4638-8E56-B3F86D90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092-45E2-4C87-8B50-FA47371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4CB-5168-4E9F-94DA-4A5CB2A4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DC1-8E0F-47DF-A77B-75165D4C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2DCB-3061-4478-9594-3CC13F7D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A8EC-607C-4E2C-AD34-75C761F5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EDAB-5587-4D8E-8A4C-42E44C3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E780-7D78-4AD1-8271-96A672EA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92C-121E-4E95-9F14-F19ACED4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CB1-FD53-42BA-932B-2B172235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E01-194C-4418-9121-FA7E4A3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354-AA2D-46F9-B004-49AFFD65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763C-7623-42CF-B3FE-88C85BA6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E3B8-6C39-4191-8B18-16347075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92C6-1A76-40F1-9815-0ADC7FD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E1F9-0CE6-4F9A-BE18-B2933DAE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8294-4302-4ED0-9051-78AA9969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FB6-6034-402D-B9FB-4920250F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081-7B0A-48F8-B764-A8F1EAE3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250-A48D-4A46-B8F9-C86F5658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ACE-ED82-4A4D-A17C-6CF92FD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907-A727-47EB-B9A7-F14E593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122-847F-42F2-82FC-C374296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EA3-F3FB-4D3A-9CC7-947D58AA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ED0A-DF82-46D9-ABA2-15277BE9696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6A6B-9ADE-4705-99CF-BDB84DA8BE1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ebellion in Upper &amp; Lower Can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art I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Caus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25916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4: Transportation Problem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led to believe upon immigrating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uy cheap 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uld have access to towns and 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 roads caused hardship &amp; dis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rgy&amp; Crown reserves lay id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ttered 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le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cked road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mers had to wind their way around res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eec94"/>
                </a:solidFill>
                <a:latin typeface="Times New Roman"/>
              </a:rPr>
              <a:t>Reformers and What they Opposed</a:t>
            </a:r>
            <a:endParaRPr b="1" lang="en-US" sz="41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of family co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changes in government/society of Upper Ca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bert Gourl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Scottish land 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d survey, list of grievances, petition…depo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am Lyon Mackenz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newspaper (“The Colonial Advocate”): spoke out on land problems, power of Co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ed to Leg. Assembly, leader of reform mov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uis-Joseph Papinea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eade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arti patrio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L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istocratic refor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ght both for radical reforms &amp; to preserve traditional French-Canadian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former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32000" y="4365360"/>
            <a:ext cx="2016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Robert Gourlay’s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32000" cy="2917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084720" y="515772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8606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Louis-Joseph Papin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54520" y="4076640"/>
            <a:ext cx="1943280" cy="2305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020000" y="5589720"/>
            <a:ext cx="15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lliam Lyon Mackenz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558120" y="765000"/>
            <a:ext cx="1996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uses of Discontent in Low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ound British rule w/o democracy hard to accept (exposure to revolu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olony controlled by oligarchy of merchants and ex-army officers – all ENGLISH spe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nglish seemed to have most advantages (80,000 English vs 420,000 Fren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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elt French society under attack: attempt to join colonies in 1822, tried to make English official language of the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eelings of Nationalis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English-speaking immigrants everywhe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meant to solve French ‘problem’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gov’t worked to change seigneurial system to freehold land system (offered land in E. Townships to people from British Is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hips arrived with cholera-stricken Ir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plot to kill French off with diseas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unequal taxation (farme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lack of power withi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uick Over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1812: British North America w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per Canada (Ontar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Canada (Quebe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Brunsw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 Sco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e Edward Is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4325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d-up to Rebell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30’s saw two rebellions erupt in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Canada: led by aristocratic Louis-Joseph Papin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per Canada: led by newspaperman William Lyon Macken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4005360"/>
            <a:ext cx="189252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20005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d-up to Rebellion continue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for both rebellions were simila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al government was out of tou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nial governments give power to small group of rich, influential men = OLIGARC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differences w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U.C. = ideological &amp; political crus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L.C. = added complexity of race &amp;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uses of Discontent in Upp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1: How the colony was govern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2: The rulers of the colo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3: The problem of l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#4: Transportation proble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#1: Government of Upper Canad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ot of the problem was in having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lec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mbly under control of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ppoin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. by Constitution Act (17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itain appointed a Governor to control oligarchy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eutenan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Govern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colony (appointed) highest ra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islative Assembly – looked democratic - all men owning property could vo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appointed councils – actual power held by them &amp; L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ld VETO anything proposed by Assemb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mbly could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gov’t, but not lead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laws/spending had to be approved by bo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2: Rulers: Family Compa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group of powerful people in Upper Cana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de up appointed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n’t want US government to be part of Canadian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nded tradition (Conservati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eved power should be in the hands of few capable people (themselv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eved Church of England should have pow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 to Great Bri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ted gov’t to build canals, improve busi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2: Rulers: Chateau Cliqu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alition of wealthy landowners, merchants, government officers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wer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system as Upper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avated by fact that elected members mainly French Canad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or’s handpicked council were Anglo merch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#3: Land Grievan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ettlers complained loudl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peculators (Family Compact) &amp; absentee landowners overpriced or tied up prime land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ss than 10% of land was producing crops (all the good land was actually in the hands of the rich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isplacement of Aboriginal peoples to give land to the Family Compac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1/7 Clergy Reserve the best land – Anglican church in Upper Canada and the Catholic Church in Lower Cana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62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57:00Z</dcterms:created>
  <dc:creator>sandhu_sonita</dc:creator>
  <dc:description/>
  <dc:language>en-US</dc:language>
  <cp:lastModifiedBy>Koutsonikas_v</cp:lastModifiedBy>
  <dcterms:modified xsi:type="dcterms:W3CDTF">2010-10-28T17:45:11Z</dcterms:modified>
  <cp:revision>17</cp:revision>
  <dc:subject/>
  <dc:title>Life in upper Canada</dc:title>
</cp:coreProperties>
</file>